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B030C-A64C-4F0E-97D4-CB3F1D18F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6681C-B4D5-415E-A784-ED9D3463A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70D9C-CFD2-4C47-AB68-9595A1220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DE3AE-8E1B-4F31-A12C-616728A3C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0590D-7B35-469E-9FD3-1A2C93285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1CB67-070F-4DD3-8801-3F75C0745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170AD-4CE5-49AE-B96A-D0018AD95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3BAD0-1585-427C-A006-7A3A2E3C4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444FF-BDED-4135-BDB8-24D55618D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86498-23FE-4870-8605-6A9E21EF1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158E7-7E70-44D0-A32F-D0EF58588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34AC5-9436-47B0-B91D-D4B86EFD3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51E4-99B7-4333-8328-44AB9DCCD6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349000"/>
            <a:ext cx="6400800" cy="328932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n quadro finanziario</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er i Leps</a:t>
            </a:r>
            <a:endParaRPr b="0" lang="en-US" sz="36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Bosi  e F. Pesare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quilibri -  commento</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dinamica non ha seguito le aspettative della Commissione Onof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a ad elevarsi il peso della sepsa pensionist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rse risorse per  assistenza e ammortizzator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076040" y="705600"/>
            <a:ext cx="63619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a spesa pubblica per le prestazioni di assistenza complessiva  e per tipologia, 2004.</a:t>
            </a:r>
            <a:endParaRPr b="0" lang="en-US" sz="1200" spc="-1" strike="noStrike">
              <a:solidFill>
                <a:srgbClr val="000000"/>
              </a:solidFill>
              <a:latin typeface="Arial"/>
            </a:endParaRPr>
          </a:p>
        </p:txBody>
      </p:sp>
      <p:graphicFrame>
        <p:nvGraphicFramePr>
          <p:cNvPr id="60" name=""/>
          <p:cNvGraphicFramePr/>
          <p:nvPr/>
        </p:nvGraphicFramePr>
        <p:xfrm>
          <a:off x="0" y="1052640"/>
          <a:ext cx="9144000" cy="5792760"/>
        </p:xfrm>
        <a:graphic>
          <a:graphicData uri="http://schemas.openxmlformats.org/drawingml/2006/table">
            <a:tbl>
              <a:tblPr/>
              <a:tblGrid>
                <a:gridCol w="4668840"/>
                <a:gridCol w="1467000"/>
                <a:gridCol w="826920"/>
                <a:gridCol w="2181240"/>
              </a:tblGrid>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estazion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alore assolu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ilioni eu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 % sul P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 % sulla spesa totale per l’assistenza socia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ssegno sociale (e pensione socia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3.34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tegrazione al trattamento minimo delle pension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13.9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ensione di invalidità civi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2.5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1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dennità di accompagnamento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8.1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5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8,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ggiorazione socia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1.6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ssegno per il nucleo familia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5.49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ondo per il sostegno all’accesso alle abitazioni in locazi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24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ssegno per le famiglie con almeno tre fig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4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ssegno di maternità per le mad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2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ensioni di guer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1.5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inistero solidarietà socia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tale prestazioni naziona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37.6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7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ervizi sociali comuna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5.3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vince  (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1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tale prestazioni loca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5.5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TALE SPESA PER ASSISTENZ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43.17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 name=""/>
          <p:cNvSpPr/>
          <p:nvPr/>
        </p:nvSpPr>
        <p:spPr>
          <a:xfrm>
            <a:off x="1618200" y="-33480"/>
            <a:ext cx="648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a struttura della spesa socia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arricchire i dati a disposizione in funzione della costruzione dei Livelli essenziali delle prestazioni sociali (LEP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è riclassificata la spesa sociale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o le indicazioni generali sulla metodologia per la costruzione dei livelli essenziali delle prestazioni sociali fornite dal  Piano nazionale degli interventi e dei servizi sociali 2001-2003 (DPR 3/5/2001). </a:t>
            </a:r>
            <a:endParaRPr b="0" lang="en-US" sz="2400" spc="-1" strike="noStrike">
              <a:solidFill>
                <a:srgbClr val="000000"/>
              </a:solidFill>
              <a:latin typeface="Arial"/>
            </a:endParaRPr>
          </a:p>
        </p:txBody>
      </p:sp>
      <p:sp>
        <p:nvSpPr>
          <p:cNvPr id="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a riclassificazione della spesa socia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179280" y="620640"/>
          <a:ext cx="8640720" cy="6162840"/>
        </p:xfrm>
        <a:graphic>
          <a:graphicData uri="http://schemas.openxmlformats.org/drawingml/2006/table">
            <a:tbl>
              <a:tblPr/>
              <a:tblGrid>
                <a:gridCol w="2766960"/>
                <a:gridCol w="729000"/>
                <a:gridCol w="730080"/>
                <a:gridCol w="730080"/>
                <a:gridCol w="727200"/>
                <a:gridCol w="730440"/>
                <a:gridCol w="730080"/>
                <a:gridCol w="728640"/>
                <a:gridCol w="768240"/>
              </a:tblGrid>
              <a:tr h="360360">
                <a:tc gridSpan="8">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riglia </a:t>
                      </a:r>
                      <a:r>
                        <a:rPr b="1" lang="en-US" sz="1200" spc="-1" strike="noStrike" u="sng">
                          <a:solidFill>
                            <a:srgbClr val="000000"/>
                          </a:solidFill>
                          <a:uFillTx/>
                          <a:latin typeface="Arial"/>
                          <a:ea typeface="Arial"/>
                        </a:rPr>
                        <a:t>corretta</a:t>
                      </a:r>
                      <a:r>
                        <a:rPr b="1" lang="en-US" sz="1200" spc="-1" strike="noStrike">
                          <a:solidFill>
                            <a:srgbClr val="000000"/>
                          </a:solidFill>
                          <a:latin typeface="Arial"/>
                          <a:ea typeface="Arial"/>
                        </a:rPr>
                        <a:t> per la definizione dei Leps (importi in milioni di eur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492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pologie di servizi e prestazion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rowSpan="4">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st.monetar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mozione soc. e Serv.soc. professional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v. pronto intervento soc.per emergenz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sist. domicilia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utture semi-residenzial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utture resid. e   Centri di accoglienza resid.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354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85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ree di interven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80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com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52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ponsabilità familiar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6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9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16,0</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352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ritti dei minor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7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3,3</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354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sone anzia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8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8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6,6</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352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trasto della povert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34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5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45,2</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35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abil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9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8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27,4</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352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rogh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354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migra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0,3</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5871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litiche sociali distrettuali (o di ambi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1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1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354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ota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9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3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43.17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100,0</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352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comp.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90,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3,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0,0</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3,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100,0</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65" name=""/>
          <p:cNvSpPr/>
          <p:nvPr/>
        </p:nvSpPr>
        <p:spPr>
          <a:xfrm>
            <a:off x="1185480" y="15840"/>
            <a:ext cx="713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 riclassificazione della spesa soci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spesa per le prestazioni monetarie, tenuto anche conto della spesa comunale, sale al 90,1% della spesa sociale complessiva, una dimensione di forte squilibrio che sottrae risorse e marginalizza i servizi alla persona e non permette la costruzione di una rete completa e organica di servizi sociali.</a:t>
            </a:r>
            <a:endParaRPr b="0"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pisce positivamente che fra le tipologie di servizi e interventi, dopo le prestazioni monetarie, si collochi la spesa per le strutture semiresidenziali (che ricomprende al suo interno per esempio asili nido, centri diurni per anziani e per disabili, ecc.) superando abbondantemente la spesa diretta per le strutture residenziali.</a:t>
            </a:r>
            <a:endParaRPr b="0"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 le aree di intervento la parte del leone viene svolta dalla spesa per il contrasto della povertà che assorbe il 45% della spesa. Si tratta di una spesa di quasi 20 miliardi di euro che però viene distribuita quasi integralmente ai soli anziani. </a:t>
            </a:r>
            <a:endParaRPr b="0"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seconda voce di spesa per importanza è costituita dall’assistenza ai disabili che assorbe 11.816 milioni di euro pari a poco più di un quarto della spesa complessiva (27,4%) mentre la spesa a favore degli anziani costituisce  solo il 6,6% ma questo non deve sorprendere viste le ulteriori risorse trasferite agli anziani attraverso le aree di intervento relative alla disabilità e al contrasto della povertà. </a:t>
            </a:r>
            <a:endParaRPr b="0" lang="en-US" sz="1600" spc="-1" strike="noStrike">
              <a:solidFill>
                <a:srgbClr val="000000"/>
              </a:solidFill>
              <a:latin typeface="Arial"/>
            </a:endParaRPr>
          </a:p>
        </p:txBody>
      </p:sp>
      <p:sp>
        <p:nvSpPr>
          <p:cNvPr id="6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iclassificazione - comment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0" y="549360"/>
          <a:ext cx="9144000" cy="6119640"/>
        </p:xfrm>
        <a:graphic>
          <a:graphicData uri="http://schemas.openxmlformats.org/drawingml/2006/table">
            <a:tbl>
              <a:tblPr/>
              <a:tblGrid>
                <a:gridCol w="4595760"/>
                <a:gridCol w="974880"/>
                <a:gridCol w="569880"/>
                <a:gridCol w="842760"/>
                <a:gridCol w="714600"/>
                <a:gridCol w="1446120"/>
              </a:tblGrid>
              <a:tr h="35244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estazioni di assistenza sociale e tax expenditure (milioni di euro 20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896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monetari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rviz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tal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abilità familiari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76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8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857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3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ssegn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6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6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1,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detrazioni per figli Irp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2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servizi per la prima infanzi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8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sto povertà (ass.sociale, int.minimo,  ec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214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23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38,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ssegno sociale, int.minimo, ec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34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bonus 2007 incapienti e aumenti pensioni minime del 20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8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gramma per anziani non autosufficient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7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2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9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1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dennità di accompagnament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7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servizi residenziali e assistenza domiciliare + stanziamento di 200 m LG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ltro (altre disabilità, droghe, dir. minori, pens. di guerra, ecc.)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1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1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3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1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tal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37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45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5817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9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i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 name=""/>
          <p:cNvSpPr/>
          <p:nvPr/>
        </p:nvSpPr>
        <p:spPr>
          <a:xfrm>
            <a:off x="1572840" y="15840"/>
            <a:ext cx="6705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tegrazione con le tax expendi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15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tegrazione con tax expenditures</a:t>
            </a:r>
            <a:endParaRPr b="0" lang="en-US" sz="3600" spc="-1" strike="noStrike">
              <a:solidFill>
                <a:srgbClr val="000000"/>
              </a:solidFill>
              <a:latin typeface="Arial"/>
            </a:endParaRPr>
          </a:p>
        </p:txBody>
      </p:sp>
      <p:sp>
        <p:nvSpPr>
          <p:cNvPr id="71" name="PlaceHolder 2"/>
          <p:cNvSpPr>
            <a:spLocks noGrp="1"/>
          </p:cNvSpPr>
          <p:nvPr>
            <p:ph type="subTitle"/>
          </p:nvPr>
        </p:nvSpPr>
        <p:spPr>
          <a:xfrm>
            <a:off x="323640" y="1628640"/>
            <a:ext cx="8351640" cy="4824720"/>
          </a:xfrm>
          <a:prstGeom prst="rect">
            <a:avLst/>
          </a:prstGeom>
          <a:noFill/>
          <a:ln w="0">
            <a:noFill/>
          </a:ln>
        </p:spPr>
        <p:txBody>
          <a:bodyPr lIns="90000" rIns="90000" tIns="46800" bIns="46800" anchor="t">
            <a:noAutofit/>
          </a:bodyPr>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ta</a:t>
            </a:r>
            <a:r>
              <a:rPr b="0" i="1" lang="en-US" sz="2000" spc="-1" strike="noStrike">
                <a:solidFill>
                  <a:srgbClr val="000000"/>
                </a:solidFill>
                <a:latin typeface="Arial"/>
              </a:rPr>
              <a:t>x expenditures</a:t>
            </a:r>
            <a:r>
              <a:rPr b="0" lang="en-US" sz="2000" spc="-1" strike="noStrike">
                <a:solidFill>
                  <a:srgbClr val="000000"/>
                </a:solidFill>
                <a:latin typeface="Arial"/>
              </a:rPr>
              <a:t> considerate sono:</a:t>
            </a: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razioni per familiari a carico diversi dal coniuge (stimata in 12 miliardi di euro), </a:t>
            </a:r>
            <a:endParaRPr b="0" lang="en-US" sz="2000" spc="-1" strike="noStrike">
              <a:solidFill>
                <a:srgbClr val="000000"/>
              </a:solidFill>
              <a:latin typeface="Arial"/>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se già stanziate per l’aumento delle pensioni minime (900 milioni), </a:t>
            </a:r>
            <a:endParaRPr b="0" lang="en-US" sz="2000" spc="-1" strike="noStrike">
              <a:solidFill>
                <a:srgbClr val="000000"/>
              </a:solidFill>
              <a:latin typeface="Arial"/>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us una tantum per incapienti (1900 milioni) nell’ipotesi che tale somma possa essere considerata permanente a partire dal 2009, </a:t>
            </a:r>
            <a:endParaRPr b="0" lang="en-US" sz="2000" spc="-1" strike="noStrike">
              <a:solidFill>
                <a:srgbClr val="000000"/>
              </a:solidFill>
              <a:latin typeface="Arial"/>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ziamento di 200 milioni per iniziative per la NA previsto dal disegno di legge finanziaria per il 2008, che si è supposto destinato all’offerta di servizi.</a:t>
            </a: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ulla base di tali integrazioni </a:t>
            </a:r>
            <a:r>
              <a:rPr b="1" lang="en-US" sz="2000" spc="-1" strike="noStrike">
                <a:solidFill>
                  <a:srgbClr val="ff0000"/>
                </a:solidFill>
                <a:latin typeface="Arial"/>
              </a:rPr>
              <a:t>il complesso delle risorse per prestazioni e </a:t>
            </a:r>
            <a:r>
              <a:rPr b="1" i="1" lang="en-US" sz="2000" spc="-1" strike="noStrike">
                <a:solidFill>
                  <a:srgbClr val="ff0000"/>
                </a:solidFill>
                <a:latin typeface="Arial"/>
              </a:rPr>
              <a:t>tax expenditures</a:t>
            </a:r>
            <a:r>
              <a:rPr b="1" lang="en-US" sz="2000" spc="-1" strike="noStrike">
                <a:solidFill>
                  <a:srgbClr val="ff0000"/>
                </a:solidFill>
                <a:latin typeface="Arial"/>
              </a:rPr>
              <a:t> risulta dell’ordine di 58 miliardi, il 4,1% del Pil</a:t>
            </a:r>
            <a:r>
              <a:rPr b="0" lang="en-US" sz="2000" spc="-1" strike="noStrike">
                <a:solidFill>
                  <a:srgbClr val="ff0000"/>
                </a:solidFill>
                <a:latin typeface="Arial"/>
              </a:rPr>
              <a:t>. </a:t>
            </a: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5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tegrazione con tax expenditures</a:t>
            </a:r>
            <a:endParaRPr b="0" lang="en-US" sz="3600" spc="-1" strike="noStrike">
              <a:solidFill>
                <a:srgbClr val="000000"/>
              </a:solidFill>
              <a:latin typeface="Arial"/>
            </a:endParaRPr>
          </a:p>
        </p:txBody>
      </p:sp>
      <p:sp>
        <p:nvSpPr>
          <p:cNvPr id="73" name="PlaceHolder 2"/>
          <p:cNvSpPr>
            <a:spLocks noGrp="1"/>
          </p:cNvSpPr>
          <p:nvPr>
            <p:ph type="subTitle"/>
          </p:nvPr>
        </p:nvSpPr>
        <p:spPr>
          <a:xfrm>
            <a:off x="323640" y="1628640"/>
            <a:ext cx="8351640" cy="4824720"/>
          </a:xfrm>
          <a:prstGeom prst="rect">
            <a:avLst/>
          </a:prstGeom>
          <a:noFill/>
          <a:ln w="0">
            <a:noFill/>
          </a:ln>
        </p:spPr>
        <p:txBody>
          <a:bodyPr lIns="90000" rIns="90000" tIns="46800" bIns="46800" anchor="t">
            <a:noAutofit/>
          </a:bodyPr>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essionante sbilanciamento a favore dei trasferimenti monetari, che coprono il 92% delle risorse complessive.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orse cospicue nel contrasto della povertà, riservata però in misura quasi esclusiva alla popolazione anziana.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risorse “congelate” nei programmi di spesa in vigore è però destinata a ridursi nel corso del tempo, per effetto del trend decrescente della spesa per integrazione al minimo delle pensioni.  La destinazione di questi risparmi di spesa al finanziamento di programma più efficaci  e universali rappresenta una sfida e un’opportunità importante della politica sociale nei prossimi ann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15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terventi prioritari</a:t>
            </a:r>
            <a:endParaRPr b="0" lang="en-US" sz="3600" spc="-1" strike="noStrike">
              <a:solidFill>
                <a:srgbClr val="000000"/>
              </a:solidFill>
              <a:latin typeface="Arial"/>
            </a:endParaRPr>
          </a:p>
        </p:txBody>
      </p:sp>
      <p:sp>
        <p:nvSpPr>
          <p:cNvPr id="75" name="PlaceHolder 2"/>
          <p:cNvSpPr>
            <a:spLocks noGrp="1"/>
          </p:cNvSpPr>
          <p:nvPr>
            <p:ph type="subTitle"/>
          </p:nvPr>
        </p:nvSpPr>
        <p:spPr>
          <a:xfrm>
            <a:off x="323640" y="1628640"/>
            <a:ext cx="8351640" cy="4824720"/>
          </a:xfrm>
          <a:prstGeom prst="rect">
            <a:avLst/>
          </a:prstGeom>
          <a:noFill/>
          <a:ln w="0">
            <a:noFill/>
          </a:ln>
        </p:spPr>
        <p:txBody>
          <a:bodyPr lIns="90000" rIns="90000" tIns="46800" bIns="46800" anchor="t">
            <a:no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piano di servizi per il sostegno delle responsabilità familiari (servizi per la prima infanzia);</a:t>
            </a: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programma completo di assicurazione contro il  rischio della non autosufficienza per gli anziani, fondato - accanto a trasferimenti monetari, che prendono le mosse da una riforma dell’indennità di accompagnamento – sull’offerta  di una gamma adeguata di servizi;</a:t>
            </a: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programma di contrasto  della povertà, sulle linee del Reddito minimo di inserimento, sperimentato nel corso della passata legislatura;</a:t>
            </a: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riordino degli interventi di redistribuzione monetaria con funzioni di sostegno delle responsabilità familiari (detrazioni Irpef e assegni familia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0" y="738360"/>
          <a:ext cx="9144000" cy="6119280"/>
        </p:xfrm>
        <a:graphic>
          <a:graphicData uri="http://schemas.openxmlformats.org/drawingml/2006/table">
            <a:tbl>
              <a:tblPr/>
              <a:tblGrid>
                <a:gridCol w="4595760"/>
                <a:gridCol w="974880"/>
                <a:gridCol w="569880"/>
                <a:gridCol w="842760"/>
                <a:gridCol w="714600"/>
                <a:gridCol w="1446120"/>
              </a:tblGrid>
              <a:tr h="35316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estazioni di assistenza sociale e tax expenditure per i minori (milioni di euro 20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860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monetari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rviz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tal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lta spe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abilità familiari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76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8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857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3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ssegn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6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6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1,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detrazioni per figli Irp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2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servizi per la prima infanzi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8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sto povertà (ass.sociale, int.minimo,  ec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214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23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38,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ssegno sociale, int.minimo, ec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34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bonus 2007 incapienti e aumenti pensioni minime del 20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8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gramma per anziani non autosufficient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7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2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9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1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dennità di accompagnament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7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servizi residenziali e assistenza domiciliare + stanziamento di 200 m LG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8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ltro (altre disabilità, droghe, dir. minori, pens. di guerra, ecc.)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1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1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3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1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tal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37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45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5817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13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9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i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
          <p:cNvSpPr/>
          <p:nvPr/>
        </p:nvSpPr>
        <p:spPr>
          <a:xfrm>
            <a:off x="3059280" y="-49320"/>
            <a:ext cx="384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terventi prioritar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roblemi generali</a:t>
            </a:r>
            <a:endParaRPr b="0" lang="en-US" sz="36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modello di finanziamento dei Leps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locarsi in un quadro in cui trovino soluzioni le difficoltà poste nel finanziamento dalla  riforma del Titol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ere conto d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esigenza di una certa gradualità di attuazi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e forti disparità territoriali (processo dinamic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ta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tti di spiazzamento dei trasferimenti e quindi di protezione dell’area della spesa soci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744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ove trovare risorse aggiuntive?</a:t>
            </a:r>
            <a:br>
              <a:rPr sz="3600"/>
            </a:br>
            <a:endParaRPr b="0" lang="en-US" sz="3600" spc="-1" strike="noStrike">
              <a:solidFill>
                <a:srgbClr val="000000"/>
              </a:solidFill>
              <a:latin typeface="Arial"/>
            </a:endParaRPr>
          </a:p>
        </p:txBody>
      </p:sp>
      <p:sp>
        <p:nvSpPr>
          <p:cNvPr id="79" name="PlaceHolder 2"/>
          <p:cNvSpPr>
            <a:spLocks noGrp="1"/>
          </p:cNvSpPr>
          <p:nvPr>
            <p:ph type="subTitle"/>
          </p:nvPr>
        </p:nvSpPr>
        <p:spPr>
          <a:xfrm>
            <a:off x="323640" y="1628640"/>
            <a:ext cx="8351640" cy="482472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estare l’irresistibile attrazione dei tarsferimenti  monetari sul fronte Irpef e Anf</a:t>
            </a:r>
            <a:endParaRPr b="0" lang="en-US" sz="2400" spc="-1" strike="noStrike">
              <a:solidFill>
                <a:srgbClr val="000000"/>
              </a:solidFill>
              <a:latin typeface="Arial"/>
            </a:endParaRPr>
          </a:p>
          <a:p>
            <a:pPr marL="609480" indent="-6094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sferimento di risorse fra previdenza (in pensioni) e assistenza </a:t>
            </a:r>
            <a:endParaRPr b="0" lang="en-US" sz="2400" spc="-1" strike="noStrike">
              <a:solidFill>
                <a:srgbClr val="000000"/>
              </a:solidFill>
              <a:latin typeface="Arial"/>
            </a:endParaRPr>
          </a:p>
          <a:p>
            <a:pPr marL="609480" indent="-6094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rdino delle prestazioni monetarie nazionali sui due fronti principali: i trattamenti al minimo e le prestazioni per i disabili. </a:t>
            </a:r>
            <a:endParaRPr b="0" lang="en-US" sz="2400" spc="-1" strike="noStrike">
              <a:solidFill>
                <a:srgbClr val="000000"/>
              </a:solidFill>
              <a:latin typeface="Arial"/>
            </a:endParaRPr>
          </a:p>
          <a:p>
            <a:pPr marL="609480" indent="-6094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orse aggiuntive dalla fiscalità gener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2400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e</a:t>
            </a:r>
            <a:br>
              <a:rPr sz="4000"/>
            </a:br>
            <a:br>
              <a:rPr sz="4000"/>
            </a:br>
            <a:r>
              <a:rPr b="0" lang="en-US" sz="1800" spc="-1" strike="noStrike">
                <a:solidFill>
                  <a:srgbClr val="000000"/>
                </a:solidFill>
                <a:latin typeface="Arial"/>
              </a:rPr>
              <a:t>seguono altre figure e tabelle “di scor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043160" y="1532880"/>
            <a:ext cx="3544200" cy="4122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b. 1 – Le prestazioni di assistenza sociale in Ital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82" name=""/>
          <p:cNvGraphicFramePr/>
          <p:nvPr/>
        </p:nvGraphicFramePr>
        <p:xfrm>
          <a:off x="179280" y="765000"/>
          <a:ext cx="8616960" cy="5052960"/>
        </p:xfrm>
        <a:graphic>
          <a:graphicData uri="http://schemas.openxmlformats.org/drawingml/2006/table">
            <a:tbl>
              <a:tblPr/>
              <a:tblGrid>
                <a:gridCol w="2917800"/>
                <a:gridCol w="1816200"/>
                <a:gridCol w="3882960"/>
              </a:tblGrid>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estazione social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estion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estinatar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ivello nazional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ssegno sociale (o pensione social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P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ittadini con più di 65 anni, con prova dei mezz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ensione d’invalidità civil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PS e region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ittadini inabili, con prova dei mezz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ssegno per le famiglie con almeno tre figli minor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PS e comun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amiglie con almeno tre figli minori, con prova dei mezz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ssegno di maternità per le madri sprovviste di altra copertura assicurativ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PS e comun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onne in stato interessante, prive di altra copertura assicurativa, con prova dei mezz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ssegno per il nucleo familia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P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Lavoratori dipendenti e pensionati ex lavoratori dipendenti, con prova dei mezz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rattamento di integrazione al minimo delle pensioni (ad esaurimento, sostituite dall’assegno social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P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ensionati titolari di pensione da lavoro, con prova dei mezz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stegno per l’accesso alle abitazioni in locazion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inistero delle infrastrutture e dei trasporti, regioni  e comun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itolari di contratto di locazione, con prova dei mezz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ivello local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6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ussidi alle famiglie in situazioni di disagi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mun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utti i nuclei familiari residenti in situazione di indigenza, ma con forte discrezionalità e vincolati alle disponibilità di bilancio dell’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soneri e/o riduzioni da tariff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muni/region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utti i cittadini, ma con forte discrezionalità e vincolati alle disponibilità di bilancio dell’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ervizi social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muni, province, AS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utti i cittadini con diverse modalità di access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92800" y="-822960"/>
            <a:ext cx="735876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b. 2 – Classificazione ESSPROS/Eurostat delle prestazioni per la protezione sociale per funzione</a:t>
            </a:r>
            <a:endParaRPr b="0" lang="en-US" sz="1200" spc="-1" strike="noStrike">
              <a:solidFill>
                <a:srgbClr val="000000"/>
              </a:solidFill>
              <a:latin typeface="Arial"/>
            </a:endParaRPr>
          </a:p>
        </p:txBody>
      </p:sp>
      <p:graphicFrame>
        <p:nvGraphicFramePr>
          <p:cNvPr id="84" name=""/>
          <p:cNvGraphicFramePr/>
          <p:nvPr/>
        </p:nvGraphicFramePr>
        <p:xfrm>
          <a:off x="324000" y="461880"/>
          <a:ext cx="8424720" cy="5703840"/>
        </p:xfrm>
        <a:graphic>
          <a:graphicData uri="http://schemas.openxmlformats.org/drawingml/2006/table">
            <a:tbl>
              <a:tblPr/>
              <a:tblGrid>
                <a:gridCol w="1766880"/>
                <a:gridCol w="3255840"/>
                <a:gridCol w="340200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Setto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estazioni in denaro</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estazioni in serviz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Sanità</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messi di malattia pagati</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tri benefici finanziar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ssistenza dei ricoverati:</a:t>
                      </a:r>
                      <a:endParaRPr b="0" lang="en-US" sz="800" spc="-1" strike="noStrike">
                        <a:solidFill>
                          <a:srgbClr val="000000"/>
                        </a:solidFill>
                        <a:latin typeface="Arial"/>
                      </a:endParaRPr>
                    </a:p>
                    <a:p>
                      <a:pPr algn="just">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 modo diretto</a:t>
                      </a:r>
                      <a:endParaRPr b="0" lang="en-US" sz="800" spc="-1" strike="noStrike">
                        <a:solidFill>
                          <a:srgbClr val="000000"/>
                        </a:solidFill>
                        <a:latin typeface="Arial"/>
                      </a:endParaRPr>
                    </a:p>
                    <a:p>
                      <a:pPr algn="just">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imborsi</a:t>
                      </a:r>
                      <a:endParaRPr b="0" lang="en-US" sz="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ura dei pazienti non ricoverati</a:t>
                      </a:r>
                      <a:endParaRPr b="0" lang="en-US" sz="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i cui: prodotti farmaceutici</a:t>
                      </a:r>
                      <a:endParaRPr b="0" lang="en-US" sz="800" spc="-1" strike="noStrike">
                        <a:solidFill>
                          <a:srgbClr val="000000"/>
                        </a:solidFill>
                        <a:latin typeface="Arial"/>
                      </a:endParaRPr>
                    </a:p>
                    <a:p>
                      <a:pPr algn="just">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 modo diretto</a:t>
                      </a:r>
                      <a:endParaRPr b="0" lang="en-US" sz="800" spc="-1" strike="noStrike">
                        <a:solidFill>
                          <a:srgbClr val="000000"/>
                        </a:solidFill>
                        <a:latin typeface="Arial"/>
                      </a:endParaRPr>
                    </a:p>
                    <a:p>
                      <a:pPr algn="just">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imborsi</a:t>
                      </a:r>
                      <a:endParaRPr b="0" lang="en-US" sz="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tri benefic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2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isabilità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nsioni di invalidità</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nsionamento anticipato dovuto alla ridotta capacità lavorativa</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messi di cura</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grazione economica del disabil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tri benefici finanziar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loggi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ssistenza nelle attività quotidian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iabilitazione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tri benefic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2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nzianità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nsioni di anzianità</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nsioni di anzianità anticipat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nsioni parziali</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nnità di accompagnam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tri benefici finanziar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loggi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ssistenza nelle attività quotidian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tri benefic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Superstit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nsioni per superstiti</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ussidio in caso di mort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tri benefici finanziar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pese per funerali</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tri benefic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2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Famiglia e infanzi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ussidio di mantenimento per il figli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ussidio di nascita</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messi parentali</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nnità di famiglia o infanzia</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tri benefici finanziar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ura giornaliera dei bambini</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loggi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iuto alla famiglia</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tri benefic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isoccupazion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ussidi di piena disoccupazion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ussidi di disoccupazione parzial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ussidi familiari</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nnità per formazione professional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isarcimento per licenziament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tri benefici finanziar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obilità e liquidazion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ormazione professional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tri benefic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bitazion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enefici per affitto di cui:</a:t>
                      </a:r>
                      <a:endParaRPr b="0" lang="en-US" sz="800" spc="-1" strike="noStrike">
                        <a:solidFill>
                          <a:srgbClr val="000000"/>
                        </a:solidFill>
                        <a:latin typeface="Arial"/>
                      </a:endParaRPr>
                    </a:p>
                    <a:p>
                      <a:pPr algn="just">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ocial housing</a:t>
                      </a:r>
                      <a:endParaRPr b="0" lang="en-US" sz="800" spc="-1" strike="noStrike">
                        <a:solidFill>
                          <a:srgbClr val="000000"/>
                        </a:solidFill>
                        <a:latin typeface="Arial"/>
                      </a:endParaRPr>
                    </a:p>
                    <a:p>
                      <a:pPr algn="just">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enefici per il proprietario-occupant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Esclusione sociale e casi non classificati altrov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ddito di sostegn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tri benefici finanziar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loggio</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cupero di alcolisti e tossicodipendenti</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ltri benefic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896400" y="7246080"/>
            <a:ext cx="1363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onte: Eurostat (1996).</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960" y="751680"/>
            <a:ext cx="53164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b. 3 – Spesa per la protezione sociale in % sul Pil nell’Europa dei 15.</a:t>
            </a:r>
            <a:endParaRPr b="0" lang="en-US" sz="1200" spc="-1" strike="noStrike">
              <a:solidFill>
                <a:srgbClr val="000000"/>
              </a:solidFill>
              <a:latin typeface="Arial"/>
            </a:endParaRPr>
          </a:p>
        </p:txBody>
      </p:sp>
      <p:graphicFrame>
        <p:nvGraphicFramePr>
          <p:cNvPr id="87" name=""/>
          <p:cNvGraphicFramePr/>
          <p:nvPr/>
        </p:nvGraphicFramePr>
        <p:xfrm>
          <a:off x="0" y="1027080"/>
          <a:ext cx="9145440" cy="4851360"/>
        </p:xfrm>
        <a:graphic>
          <a:graphicData uri="http://schemas.openxmlformats.org/drawingml/2006/table">
            <a:tbl>
              <a:tblPr/>
              <a:tblGrid>
                <a:gridCol w="1523880"/>
                <a:gridCol w="1524240"/>
                <a:gridCol w="1525320"/>
                <a:gridCol w="1525680"/>
                <a:gridCol w="1525680"/>
                <a:gridCol w="15206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zion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vez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nc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nimar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erma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lg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st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lan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U 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6,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7,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7,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land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no Uni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a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c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rtogal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ussembur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ag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rlan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8" name=""/>
          <p:cNvSpPr/>
          <p:nvPr/>
        </p:nvSpPr>
        <p:spPr>
          <a:xfrm>
            <a:off x="-8640" y="5877360"/>
            <a:ext cx="28432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onte: nostra elaborazione su dati Eurostat (2007b).</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560" y="751680"/>
            <a:ext cx="70891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b. 4 – Spesa pro-capite a prezzi costanti per la protezione sociale nell’Europa dei 15. </a:t>
            </a:r>
            <a:r>
              <a:rPr b="0" lang="en-US" sz="1200" spc="-1" strike="noStrike">
                <a:solidFill>
                  <a:srgbClr val="000000"/>
                </a:solidFill>
                <a:latin typeface="Arial"/>
                <a:ea typeface="Times New Roman"/>
              </a:rPr>
              <a:t>(in euro)</a:t>
            </a:r>
            <a:endParaRPr b="0" lang="en-US" sz="1200" spc="-1" strike="noStrike">
              <a:solidFill>
                <a:srgbClr val="000000"/>
              </a:solidFill>
              <a:latin typeface="Arial"/>
            </a:endParaRPr>
          </a:p>
        </p:txBody>
      </p:sp>
      <p:graphicFrame>
        <p:nvGraphicFramePr>
          <p:cNvPr id="90" name=""/>
          <p:cNvGraphicFramePr/>
          <p:nvPr/>
        </p:nvGraphicFramePr>
        <p:xfrm>
          <a:off x="0" y="1027080"/>
          <a:ext cx="9145440" cy="4851360"/>
        </p:xfrm>
        <a:graphic>
          <a:graphicData uri="http://schemas.openxmlformats.org/drawingml/2006/table">
            <a:tbl>
              <a:tblPr/>
              <a:tblGrid>
                <a:gridCol w="3051000"/>
                <a:gridCol w="3051360"/>
                <a:gridCol w="304308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zion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ussembur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85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5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nimar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54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4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vez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6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1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nc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47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st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8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3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erma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4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lg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5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lan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87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land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75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6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no Uni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4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3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U 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7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8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a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rlan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6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4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ag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9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c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5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rtogal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1" name=""/>
          <p:cNvSpPr/>
          <p:nvPr/>
        </p:nvSpPr>
        <p:spPr>
          <a:xfrm>
            <a:off x="-8640" y="5877360"/>
            <a:ext cx="28432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onte: nostra elaborazione su dati Eurostat (2007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492200" y="690480"/>
          <a:ext cx="6159600" cy="5478480"/>
        </p:xfrm>
        <a:graphic>
          <a:graphicData uri="http://schemas.openxmlformats.org/drawingml/2006/table">
            <a:tbl>
              <a:tblPr/>
              <a:tblGrid>
                <a:gridCol w="1282680"/>
                <a:gridCol w="609480"/>
                <a:gridCol w="609840"/>
                <a:gridCol w="609480"/>
                <a:gridCol w="609480"/>
                <a:gridCol w="609840"/>
                <a:gridCol w="609480"/>
                <a:gridCol w="609480"/>
                <a:gridCol w="609840"/>
              </a:tblGrid>
              <a:tr h="215640">
                <a:tc gridSpan="9">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Tab. 5 – Suddivisione della spesa per la protezione sociale per funzione in % sul Pil nell’Europa dei 15. Anno 2004.</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azion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vecchiai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nitari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abil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amiglie, maternità e figl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mmortizzatori mercato del lavor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estazioni ai superstit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as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sclusion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66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valid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ocial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vezi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4,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ranci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8,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animarc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1,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3,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Times New Roman"/>
                          <a:ea typeface="Times New Roman"/>
                        </a:rPr>
                        <a:t>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Germani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Belgi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3,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ustri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Times New Roman"/>
                          <a:ea typeface="Times New Roman"/>
                        </a:rPr>
                        <a:t>13,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7,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2,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1,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0,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0,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0,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Oland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9,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8,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2,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1,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1,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0,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Times New Roman"/>
                          <a:ea typeface="Times New Roman"/>
                        </a:rPr>
                        <a:t>1,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EU 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1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7,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2,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2,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1,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1,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0,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0,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Finlandi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Regno Uni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0000"/>
                          </a:solidFill>
                          <a:latin typeface="Times New Roman"/>
                          <a:ea typeface="Times New Roman"/>
                        </a:rPr>
                        <a:t>Itali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0000"/>
                          </a:solidFill>
                          <a:latin typeface="Times New Roman"/>
                          <a:ea typeface="Times New Roman"/>
                        </a:rPr>
                        <a:t>12,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0000"/>
                          </a:solidFill>
                          <a:latin typeface="Times New Roman"/>
                          <a:ea typeface="Times New Roman"/>
                        </a:rPr>
                        <a:t>6,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0000"/>
                          </a:solidFill>
                          <a:latin typeface="Times New Roman"/>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0000"/>
                          </a:solidFill>
                          <a:latin typeface="Times New Roman"/>
                          <a:ea typeface="Times New Roman"/>
                        </a:rPr>
                        <a:t>1,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ff0000"/>
                          </a:solidFill>
                          <a:uFillTx/>
                          <a:latin typeface="Times New Roman"/>
                          <a:ea typeface="Times New Roman"/>
                        </a:rPr>
                        <a:t>0,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0000"/>
                          </a:solidFill>
                          <a:latin typeface="Times New Roman"/>
                          <a:ea typeface="Times New Roman"/>
                        </a:rPr>
                        <a:t>2,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ff0000"/>
                          </a:solidFill>
                          <a:uFillTx/>
                          <a:latin typeface="Times New Roman"/>
                          <a:ea typeface="Times New Roman"/>
                        </a:rPr>
                        <a:t>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ff0000"/>
                          </a:solidFill>
                          <a:uFillTx/>
                          <a:latin typeface="Times New Roman"/>
                          <a:ea typeface="Times New Roman"/>
                        </a:rPr>
                        <a:t>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Greci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1,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ortogall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Times New Roman"/>
                          <a:ea typeface="Times New Roman"/>
                        </a:rPr>
                        <a:t>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Lussemburg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Times New Roman"/>
                          <a:ea typeface="Times New Roman"/>
                        </a:rPr>
                        <a:t>5,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pag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Times New Roman"/>
                          <a:ea typeface="Times New Roman"/>
                        </a:rPr>
                        <a:t>0,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rland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Times New Roman"/>
                          <a:ea typeface="Times New Roman"/>
                        </a:rPr>
                        <a:t>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258920" y="1557360"/>
            <a:ext cx="6481800" cy="381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187280" y="1773360"/>
            <a:ext cx="6769440" cy="367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itolo V e disegno di legge sul federalismo</a:t>
            </a:r>
            <a:endParaRPr b="0" lang="en-US" sz="3200" spc="-1" strike="noStrike">
              <a:solidFill>
                <a:srgbClr val="000000"/>
              </a:solidFill>
              <a:latin typeface="Arial"/>
            </a:endParaRPr>
          </a:p>
        </p:txBody>
      </p:sp>
      <p:sp>
        <p:nvSpPr>
          <p:cNvPr id="45" name="PlaceHolder 2"/>
          <p:cNvSpPr>
            <a:spLocks noGrp="1"/>
          </p:cNvSpPr>
          <p:nvPr>
            <p:ph/>
          </p:nvPr>
        </p:nvSpPr>
        <p:spPr>
          <a:xfrm>
            <a:off x="457200" y="1599840"/>
            <a:ext cx="8229600" cy="2981160"/>
          </a:xfrm>
          <a:prstGeom prst="rect">
            <a:avLst/>
          </a:prstGeom>
          <a:noFill/>
          <a:ln w="0">
            <a:noFill/>
          </a:ln>
        </p:spPr>
        <p:txBody>
          <a:bodyPr lIns="90000" rIns="90000" tIns="46800" bIns="46800" anchor="t">
            <a:normAutofit/>
          </a:bodyPr>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realizzazione dei Leps</a:t>
            </a:r>
            <a:endParaRPr b="0" lang="en-US" sz="32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resuppone il completamento</a:t>
            </a:r>
            <a:endParaRPr b="0" lang="en-US" sz="32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ella riforma del titolo V (art. 117 e 11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itolo V e disegno di legge sul federalismo</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80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 modello di finanziamento contenuto del ddl distingue quattro tipi di spesa.</a:t>
            </a:r>
            <a:endParaRPr b="0" lang="en-US" sz="1400" spc="-1" strike="noStrike">
              <a:solidFill>
                <a:srgbClr val="000000"/>
              </a:solidFill>
              <a:latin typeface="Arial"/>
            </a:endParaRPr>
          </a:p>
          <a:p>
            <a:pPr marL="380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Spese relative ai </a:t>
            </a:r>
            <a:r>
              <a:rPr b="1" lang="en-US" sz="1400" spc="-1" strike="noStrike">
                <a:solidFill>
                  <a:srgbClr val="333399"/>
                </a:solidFill>
                <a:latin typeface="Arial"/>
              </a:rPr>
              <a:t>«livelli essenziali» delle prestazioni (art. 117, comma 2, lettera m)</a:t>
            </a:r>
            <a:r>
              <a:rPr b="1" lang="en-US" sz="1400" spc="-1" strike="noStrike">
                <a:solidFill>
                  <a:srgbClr val="000000"/>
                </a:solidFill>
                <a:latin typeface="Arial"/>
              </a:rPr>
              <a:t> per le quali si identifica un </a:t>
            </a:r>
            <a:r>
              <a:rPr b="1" lang="en-US" sz="1400" spc="-1" strike="noStrike">
                <a:solidFill>
                  <a:srgbClr val="333399"/>
                </a:solidFill>
                <a:latin typeface="Arial"/>
              </a:rPr>
              <a:t>finanziamento integrale dei fabbisogni standard</a:t>
            </a:r>
            <a:r>
              <a:rPr b="1" lang="en-US" sz="1400" spc="-1" strike="noStrike">
                <a:solidFill>
                  <a:srgbClr val="000000"/>
                </a:solidFill>
                <a:latin typeface="Arial"/>
              </a:rPr>
              <a:t>. Il finanziamento di ciascuna Regione è garantito da una dotazione fiscale misurata con riferimento ad alcuni tributi propri più eventuali trasferimenti perequativi verticali, tali da colmare integralmente il divario tra fabbisogni standard e capacità fiscale.</a:t>
            </a:r>
            <a:endParaRPr b="0" lang="en-US" sz="1400" spc="-1" strike="noStrike">
              <a:solidFill>
                <a:srgbClr val="000000"/>
              </a:solidFill>
              <a:latin typeface="Arial"/>
            </a:endParaRPr>
          </a:p>
          <a:p>
            <a:pPr marL="380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pese in cui le Regioni hanno competenza legislativa concorrente ed esclusiva e che coinvolgono per l’amministrazione i Comuni che, insieme a risorse proprie, forniscono servizi pubblici a favore dei propri cittadini. In questo caso si prevede  la garanzia finanziaria da parte dello Stato del finanziamento integrale di queste funzioni fondamentali dei Comuni (mediante l’attribuzione di tributi erariali e di trasferimenti perequativi).</a:t>
            </a:r>
            <a:endParaRPr b="0" lang="en-US" sz="1400" spc="-1" strike="noStrike">
              <a:solidFill>
                <a:srgbClr val="000000"/>
              </a:solidFill>
              <a:latin typeface="Arial"/>
            </a:endParaRPr>
          </a:p>
          <a:p>
            <a:pPr marL="380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se regionali che hanno una portata equitativa minore (spese “autonome”), in cui è meno forte  l’esigenza di un’offerta uniforme di servizi sul territorio nazionale . Per queste funzioni la riforma prevede un fondo perequativo ispirato al meccanismo della perequazione della capacità fiscale.</a:t>
            </a:r>
            <a:endParaRPr b="0" lang="en-US" sz="1400" spc="-1" strike="noStrike">
              <a:solidFill>
                <a:srgbClr val="000000"/>
              </a:solidFill>
              <a:latin typeface="Arial"/>
            </a:endParaRPr>
          </a:p>
          <a:p>
            <a:pPr marL="380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Spese regionali che fanno riferimento a interventi speciali attivati per finalità specifiche. Sono gli interventi riferibili all’art. 119, comma 5 (promuovere lo sviluppo economico, la coesione e la solidarietà sociale, rimuovere gli squilibri economici e sociali, favorire l’effettivo esercizio dei diritti della persona, ecc.). Il finanziamento di questi interventi si realizza mediante specifici trasferimenti di settore, eventualmente vincolati nella destinazione di spesa, derivanti dal bilancio dello Stato e dell’Unione europe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itolo V e disegno di legge sul federalismo</a:t>
            </a: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80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ssume quindi l’esistenza di un duplice canale di finanziamento:</a:t>
            </a:r>
            <a:endParaRPr b="0" lang="en-US" sz="2400" spc="-1" strike="noStrike">
              <a:solidFill>
                <a:srgbClr val="000000"/>
              </a:solidFill>
              <a:latin typeface="Arial"/>
            </a:endParaRPr>
          </a:p>
          <a:p>
            <a:pPr marL="380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livelli essenziali trovano copertura integrale sulla base di criteri fondati su fabbisogni standard. </a:t>
            </a:r>
            <a:endParaRPr b="0" lang="en-US" sz="2400" spc="-1" strike="noStrike">
              <a:solidFill>
                <a:srgbClr val="000000"/>
              </a:solidFill>
              <a:latin typeface="Arial"/>
            </a:endParaRPr>
          </a:p>
          <a:p>
            <a:pPr marL="380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ò rappresenterebbe una garanzia sulla congruità del finanziamento dei Lep, </a:t>
            </a:r>
            <a:endParaRPr b="0" lang="en-US" sz="2400" spc="-1" strike="noStrike">
              <a:solidFill>
                <a:srgbClr val="000000"/>
              </a:solidFill>
              <a:latin typeface="Arial"/>
            </a:endParaRPr>
          </a:p>
          <a:p>
            <a:pPr marL="380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he se non è chiaro se sarà possibile distinguere la componente del finanziamento che affluisce ad uno finalità (ad es. la sanità) o ad un’altra (ad es. l’assisten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l quadro della spes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finanziamento dei Leps non  coincide con la dimensione della spesa attuale perché i Leps riguardano la spesa </a:t>
            </a:r>
            <a:r>
              <a:rPr b="0" lang="en-US" sz="2000" spc="-1" strike="noStrike">
                <a:solidFill>
                  <a:srgbClr val="333399"/>
                </a:solidFill>
                <a:latin typeface="Arial"/>
              </a:rPr>
              <a:t>essenzia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prospettive del processo di definizione dei Lep è però strettamente condizionato all’esistenza di un percorso di riforma finanziariamente credibile e sostenibi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questo scopo è necessario disporre d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quadro della dimensione delle risorse finanziarie attualmente impiegate in quest’are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quadro ragionevolmente condiviso delle principali riforme che appare urgente realizza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a valutazione dell’ordine di grandezza del fabbisogno finanziario che la loro realizzazione comporta in un arco temporale di medio term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dinamica della spesa dal 97 ad ogg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struttura della spes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riclassificazione della sep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considerazione anche delle tax expenditures (detrazioni Irpe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ta di interventi prioritari </a:t>
            </a:r>
            <a:endParaRPr b="0" lang="en-US" sz="32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punti affrontati in questo interv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1341360"/>
            <a:ext cx="8353440" cy="5040360"/>
          </a:xfrm>
          <a:prstGeom prst="rect">
            <a:avLst/>
          </a:prstGeom>
          <a:ln w="0">
            <a:noFill/>
          </a:ln>
        </p:spPr>
      </p:pic>
      <p:sp>
        <p:nvSpPr>
          <p:cNvPr id="55"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quilibri quantitativi e struttural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324000" y="260280"/>
          <a:ext cx="8280000" cy="6408360"/>
        </p:xfrm>
        <a:graphic>
          <a:graphicData uri="http://schemas.openxmlformats.org/drawingml/2006/table">
            <a:tbl>
              <a:tblPr/>
              <a:tblGrid>
                <a:gridCol w="6430680"/>
                <a:gridCol w="924840"/>
                <a:gridCol w="924480"/>
              </a:tblGrid>
              <a:tr h="32436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La spesa per la protezione sociale  dal 1997 al 2006</a:t>
                      </a:r>
                      <a:r>
                        <a:rPr b="1" lang="en-US" sz="1200" spc="-1" strike="noStrike">
                          <a:solidFill>
                            <a:srgbClr val="ff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556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Classificazione Commissione Onofri - milioni di eur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19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20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Pensioni in senso stretto e Tf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88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93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580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n % del Pi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1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1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440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n % delle prestazioni per la spesa di protezione sociale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55,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56,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652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Assicurazioni  del mercato del lavor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34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5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652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n % del Pi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440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n % delle prestazioni per la spesa di protezione sociale riclassifica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652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 Assistenza social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2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45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652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n % del Pi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3,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404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n % delle prestazioni per la spesa di protezione sociale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1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1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652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 Sanità</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8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47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652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n % del Pi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6,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440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n % delle prestazioni per la spesa di protezione sociale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2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25,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672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 Prestazioni per la protezione sociale riclassificate (1+2+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936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731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652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n % del Pi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23,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2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6160">
                <a:tc>
                  <a: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stim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7T10:10:38Z</dcterms:created>
  <dc:creator>paolo bosi</dc:creator>
  <dc:description/>
  <dc:language>en-US</dc:language>
  <cp:lastModifiedBy>paolo bosi</cp:lastModifiedBy>
  <dcterms:modified xsi:type="dcterms:W3CDTF">2007-10-29T12:12:03Z</dcterms:modified>
  <cp:revision>13</cp:revision>
  <dc:subject/>
  <dc:title>I leps</dc:title>
</cp:coreProperties>
</file>