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8183-2928-4967-8DA0-A682301A4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A04D-0548-4F0E-AECA-F4092C0B3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554D-2522-4914-B1C9-201241DBD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889A-3E86-4F8F-9997-F05223860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24F3-EB30-48E5-9BB1-6274495816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B5D2-9DC6-46D5-B371-71E779D84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3622-04EA-4A8D-857B-EE9952197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0496-BCCD-4A4E-AE39-B27BA04AE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5C4F-EE19-4464-B509-71C44645DC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AE7F-C686-4D89-BFEE-831EF1ACA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5C2B-B9D2-4BE9-BC8A-5DBACC1F8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0B97-1740-41B7-8D51-985FC6EC9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ED75-B471-475C-ADAF-8A14F21080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63DE-4B5E-4B89-9511-0F92C8045C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9CCE-EDA0-4D09-9844-ED2B36769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FBA9-B1FC-4D57-A5D9-FDA7685E0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B5CA-EC2E-4CFC-B7FD-4B561E379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85B9-9653-4387-8C6A-3270BA1A0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EC5-6DD6-48A8-BCB5-6F6155D67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4CED-16CF-4B10-8170-50C6F3821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E107-151C-442A-97C7-9D68AF186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C3F9-3266-4A46-BF8E-E79FAD292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917A-A798-4FD4-9843-70683E067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9BAC-D367-4367-BB71-9616D8620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92aecf"/>
                </a:gs>
                <a:gs pos="100000">
                  <a:srgbClr val="e0e6e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prstGeom prst="pie">
              <a:avLst/>
            </a:prstGeom>
            <a:noFill/>
            <a:ln cap="rnd" w="12600">
              <a:solidFill>
                <a:srgbClr val="a2c1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A5CB-F1AA-4199-8F13-A246B29CA68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arta intestataIRS-perMilano-k40"/>
          <p:cNvPicPr/>
          <p:nvPr/>
        </p:nvPicPr>
        <p:blipFill>
          <a:blip r:embed="rId2"/>
          <a:stretch/>
        </p:blipFill>
        <p:spPr>
          <a:xfrm>
            <a:off x="142920" y="6429240"/>
            <a:ext cx="928800" cy="3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4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92aecf"/>
                </a:gs>
                <a:gs pos="100000">
                  <a:srgbClr val="e0e6e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0" y="7920"/>
              <a:ext cx="8404200" cy="6838920"/>
            </a:xfrm>
            <a:prstGeom prst="pie">
              <a:avLst/>
            </a:prstGeom>
            <a:noFill/>
            <a:ln cap="rnd" w="12600">
              <a:solidFill>
                <a:srgbClr val="a2c1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arta intestataIRS-perMilano-k40"/>
          <p:cNvPicPr/>
          <p:nvPr/>
        </p:nvPicPr>
        <p:blipFill>
          <a:blip r:embed="rId2"/>
          <a:stretch/>
        </p:blipFill>
        <p:spPr>
          <a:xfrm>
            <a:off x="142920" y="6429240"/>
            <a:ext cx="928800" cy="33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b00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5DB-A60F-47E0-ACC7-1C7AEA66CB2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sservatorio nazionale sull’attuazione della legge 328/2000</a:t>
            </a:r>
            <a:br>
              <a:rPr sz="2400"/>
            </a:br>
            <a:br>
              <a:rPr sz="2400"/>
            </a:br>
            <a:r>
              <a:rPr b="1" i="1" lang="it-IT" sz="2400" spc="-1" strike="noStrike">
                <a:solidFill>
                  <a:srgbClr val="006699"/>
                </a:solidFill>
                <a:latin typeface="Arial"/>
              </a:rPr>
              <a:t>Crisi economica, povertà ed esclusione sociale: la necessità di un piano naziona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800" spc="-1" strike="noStrike">
                <a:solidFill>
                  <a:srgbClr val="006699"/>
                </a:solidFill>
                <a:latin typeface="Arial"/>
              </a:rPr>
              <a:t>I LIVELLI ESSENZIALI PER UNA POLITICA DI INCLUSIONE SOCIALE: FABBISOGNI E STRUMENTI PER CONTRASTARE</a:t>
            </a:r>
            <a:br>
              <a:rPr sz="2800"/>
            </a:br>
            <a:r>
              <a:rPr b="1" lang="it-IT" sz="2800" spc="-1" strike="noStrike">
                <a:solidFill>
                  <a:srgbClr val="006699"/>
                </a:solidFill>
                <a:latin typeface="Arial"/>
              </a:rPr>
              <a:t>LA POVERTA’ MINORI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0040" y="467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manuele Ranci Ortig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irettore scientifico 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CNEL 12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63B-73BA-467F-8866-5FE8BD4A031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Spesa pro capite per povertà ed esclusione social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(Eurostat Espross 2004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1638360"/>
          <a:ext cx="3809880" cy="4784760"/>
        </p:xfrm>
        <a:graphic>
          <a:graphicData uri="http://schemas.openxmlformats.org/drawingml/2006/table">
            <a:tbl>
              <a:tblPr/>
              <a:tblGrid>
                <a:gridCol w="2266920"/>
                <a:gridCol w="15429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isure di sostegno per l'esclusione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ro capite in P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etherlan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Den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uxembour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6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wed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8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ypr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5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in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Belgi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love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German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Aust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r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Gree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r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zech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lovak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United Kingdo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pai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a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572000" y="1628640"/>
          <a:ext cx="3598920" cy="2138400"/>
        </p:xfrm>
        <a:graphic>
          <a:graphicData uri="http://schemas.openxmlformats.org/drawingml/2006/table">
            <a:tbl>
              <a:tblPr/>
              <a:tblGrid>
                <a:gridCol w="2141640"/>
                <a:gridCol w="1457280"/>
              </a:tblGrid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isure di sostegno per l'esclusione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ro capite in P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ccff"/>
                      </a:solidFill>
                    </a:lnL>
                    <a:lnR w="5760">
                      <a:solidFill>
                        <a:srgbClr val="cccc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rtug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ithu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Hunga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sto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Latv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ff"/>
                          </a:solidFill>
                          <a:latin typeface="Georgia"/>
                          <a:ea typeface="Arial"/>
                        </a:rPr>
                        <a:t>Italy</a:t>
                      </a:r>
                      <a:r>
                        <a:rPr b="1" lang="en-GB" sz="1000" spc="-1" strike="noStrike">
                          <a:solidFill>
                            <a:srgbClr val="00ff9f"/>
                          </a:solidFill>
                          <a:latin typeface="Georgia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98A4-0EFB-44A3-BE7A-3242991E2D7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072040" y="6334200"/>
            <a:ext cx="29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Fonte: Elaborazione IRS su dati Eurostat, 2006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L’impatto dei trasferimenti sociali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 sulla povertà</a:t>
            </a:r>
            <a:br>
              <a:rPr sz="4000"/>
            </a:br>
            <a:r>
              <a:rPr b="0" lang="it-IT" sz="1800" spc="-1" strike="noStrike">
                <a:solidFill>
                  <a:srgbClr val="006699"/>
                </a:solidFill>
                <a:latin typeface="Arial"/>
              </a:rPr>
              <a:t>percentuale di riduzione del tasso di rischio di povertà</a:t>
            </a:r>
            <a:br>
              <a:rPr sz="1800"/>
            </a:br>
            <a:r>
              <a:rPr b="0" lang="it-IT" sz="1800" spc="-1" strike="noStrike">
                <a:solidFill>
                  <a:srgbClr val="006699"/>
                </a:solidFill>
                <a:latin typeface="Arial"/>
              </a:rPr>
              <a:t>dovuto ai trasferimenti social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676520" y="1876320"/>
            <a:ext cx="5790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000080" y="2357280"/>
            <a:ext cx="6715080" cy="386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354-F23B-4EDF-8317-D759A62FA9C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500280" y="6550200"/>
            <a:ext cx="523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Fonte: Elaborazione IRS su dati Eurostat, 2006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9960" y="63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Quali misure sono più efficaci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ell’abbattere oltre certe soglie la povertà economica interventi specifici e ben mirati, universali e selettivi, sono determinanti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egnaposto numero diapositiva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172D-5C29-42B5-AE1E-87E4922258C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L’impatto della spesa sociale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 sulla povertà minoril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76520" y="1876320"/>
            <a:ext cx="5790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286240" y="6286680"/>
            <a:ext cx="3857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Arial"/>
              </a:rPr>
              <a:t>Fonte: Elaborazione IRS su dati Eurostat, 2006</a:t>
            </a:r>
            <a:r>
              <a:rPr b="0" lang="it-IT" sz="11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Grafico 3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072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L’impatto di interventi mirati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 sulla povertà minoril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676520" y="1876320"/>
            <a:ext cx="579096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35B-B921-4E64-AA5B-8A22AF6F12E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co 19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07264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Rettangolo 6"/>
          <p:cNvSpPr/>
          <p:nvPr/>
        </p:nvSpPr>
        <p:spPr>
          <a:xfrm>
            <a:off x="2500200" y="6421320"/>
            <a:ext cx="4572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Calibri"/>
              </a:rPr>
              <a:t>Font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Calibri"/>
              </a:rPr>
              <a:t>: A. Brandolini C.Saraceno (a cura di)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Calibri"/>
              </a:rPr>
              <a:t>Povertà e Benessere. Una geografia delle diseguaglianze in Ital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Calibri"/>
              </a:rPr>
              <a:t> Il Mulino, Bologna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ridurre la povertà minorile sono particolarmente efficaci le misure child-contingent, ossia gli sgravi fiscali e i trasferimenti monetari commisurati alla presenza di min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i misure sono assai differenziate da paese a paese e sono limitate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Effetti di interventi mirati</a:t>
            </a:r>
            <a:br>
              <a:rPr sz="4400"/>
            </a:b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sulla povertà minoril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898F-1387-4A72-ACBC-0A01F420125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</a:rPr>
              <a:t>Povertà e politiche di contrasto in Italia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Segnaposto numero diapositiva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EEB-ED94-4C5F-B300-31F1119052B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Il contrasto alla povertà in Italia è poco efficac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poco efficace sulla povertà, e sulla povertà minorile, come evidenziano, pur nei loro limiti tecnici, i confronti a livello 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ché è poco effic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spende po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spende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EF64-3A8E-49F7-8C5B-B1AF0A335BF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47640" y="88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La spesa per l’assistenza so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66760" y="23320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’incidenza della spesa per l’assistenza sociale è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in costante diminu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: dal 3,5% del 1997 al 3% del 2006 sul PIL, e dal 14,6% al 11,9% sulla spesa per la protez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La media in Europa è del 5.1% e noi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siamo gli ult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7E01-1217-46F0-9073-9683F347401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Spendiamo poco, spendiamo ma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6920" y="1413000"/>
            <a:ext cx="7359840" cy="487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imiti quantitativ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, con varia consistenza a seconda delle classificazioni,  ma da soli non spiegano la bassa ef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e misure non sono universalist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a categori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Non c’e’ un sistema unitario di prova dei mezz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il soggetto considerato è talora l’individuo, talora 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e misure sono poco redistributiv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l’Italia occupa l’ultimo posto in Europa per quota di trasferimenti monetari che vanno al 30% della popolazione più povera nella distribuzione del redd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egnaposto numero diapositiva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04A-6F32-4DF8-B683-C614654E1B9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vertà, povertà economica, min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talia ed Europa: contro la povertà, quante risorse, con quale effica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vertà e politiche di contrasto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litiche di contrasto alla povertà e politiche per 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piano di intervento contro la povertà delle famiglie con figli minori R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livelli essenziali 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Traccia dell’interven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A506-722F-46B8-B541-4290DB9C036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1840" y="596520"/>
            <a:ext cx="818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Disuguaglianza, povertà e serviz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2060640"/>
            <a:ext cx="833112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ualmente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imposte e trasferimenti monetari nazionali (88% della spesa) ridistribuiscono poc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I servizi diffus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e invece riescano a svolgere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un’importante funzione redistributiv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anche in termini di aumento delle opportunità per i min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a la debolezza degli attuali trasferimenti monetari nazionali, a fronte della crisi si rischia un effetto di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trascinamento degli interventi regionali e locali</a:t>
            </a:r>
            <a:r>
              <a:rPr b="0" lang="it-IT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 analoghe misure moneta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egnaposto numero diapositiva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1C9-5DD1-4D12-B400-57C970389A7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</a:rPr>
              <a:t>Prestazioni monetarie e serviz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Italia la quota d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spesa sociale per servizi è assai limit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irca il 12%, inferiore alla media dei paesi europei. La dotazioni di servizi, e di servizi per minori, specie in certe aree, è bassis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e  modeste risorse regionali e locali dovrebbero quindi produrre soprattutto serviz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ragioni redistributive e per creare quella rete di accesso, orientamento, sostegno necessaria anche perché il contrasto alla povertà assuma una dimensione di attivazione, di inserimento sociale e lav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484-173C-4F34-904C-6603FAB4495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Politiche di contrasto alla povertà e politiche per la famiglia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Segnaposto numero diapositiva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D3C-A95A-4C3E-AB64-A96FB630B13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14240" y="172836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coinvolte tanto le politiche di contrasto alla povertà che le politiche per la famiglia: il minore povero sta in una famiglia po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te due politiche hanno proprie specifiche finalità, e propri interventi, talora convergenti, talora diverg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 composizione e integrazione comporta arricchimenti e/o ridu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Sulla povertà e in particolare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la povertà minoril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7BB-BBF1-4CC2-BAB9-8C1843AB352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14240" y="1657080"/>
            <a:ext cx="777240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ve assicurare alle famiglie ed alle persone, al di là delle loro condizioni economiche e sociali, </a:t>
            </a:r>
            <a:r>
              <a:rPr b="0" lang="it-IT" sz="2200" spc="-1" strike="noStrike">
                <a:solidFill>
                  <a:srgbClr val="006699"/>
                </a:solidFill>
                <a:latin typeface="Arial"/>
              </a:rPr>
              <a:t>la possibilità di progettare, generare, crescere figli che abbiano adeguate cure e prospettive per il loro futuro, senza eccessivi oneri sull’esistenza e le prospettive di vita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genitori stessi e di altri familiari coinvol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ccorre un ridisegno integrato di politiche sociali amichevoli per le famiglie ed i minori, articolato su tre dimensioni critic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formazione, consulenza, orientamento, conciliazione,    accompagnamento a responsabilità genitori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dizioni economiche e abitativ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viluppo di un sistema di servizi di cura sociali, educativi, scolastici, soprattutto nelle zone che più ne sono prive; congedi e conciliazione dei tem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La politica per le famiglie con figl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A545-34C6-4C44-8EDB-1E6D2FEC80F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99"/>
                </a:solidFill>
                <a:latin typeface="Arial"/>
              </a:rPr>
              <a:t>E’ obiettivo essenzi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anche se non unico, delle politiche sociali. Anche il recente libro verde afferma che “la lotta alla povertà estrema è uno dei principali obiettivi per la costruzione di una società fondata sulle opportunità e sulla solidarietà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chiede interventi articolati s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99"/>
                </a:solidFill>
                <a:latin typeface="Arial"/>
              </a:rPr>
              <a:t>una erogazione economica integrativa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l reddito fino ad un livello minimo garant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99"/>
                </a:solidFill>
                <a:latin typeface="Arial"/>
              </a:rPr>
              <a:t>un intervento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 progettazione, promozione , sostegno e offerta di servizi appropriati per la valorizzazione delle risorse attuali e potenziali della famiglia, e in particolare dei figli minori, finalizzato  alla </a:t>
            </a:r>
            <a:r>
              <a:rPr b="0" lang="it-IT" sz="2200" spc="-1" strike="noStrike">
                <a:solidFill>
                  <a:srgbClr val="006699"/>
                </a:solidFill>
                <a:latin typeface="Arial"/>
              </a:rPr>
              <a:t>responsabilizzazione e attivazione dei beneficiar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l superamento e all’uscita dalla povertà e dall’esclus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Il contrasto alla povertà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 e all’esclusione social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61F-E7B9-496B-963E-864BF71F58C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</a:rPr>
              <a:t>Le diverse specificità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Le politiche per la famigl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 assumono una forte selettività reddituale, trascurano famiglie con figli meno povere, e magari con forti difficoltà di concili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Le politiche di contrasto</a:t>
            </a:r>
            <a:br>
              <a:rPr sz="2800"/>
            </a:b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alla povertà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umono come criteri selettivi non solo il reddito, ma anche la presenza di figli, trascurano le famiglie povere senza fig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egnaposto numero diapositiva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9CF4-D5AB-44CE-A7EE-2C365D6D4F0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5640" y="213372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necessario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decidere una prior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Contaminazio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riduzioni reciproche per un primo passo, reso urgente e   insieme limitato dalla crisi economica, possono essere trov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nno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collocate entro una strategia general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esplicitamente ne programma altri successivi, fino a conseguire livelli di tutela contro la povertà (RIS) e di promozione familiare e sociale adeguati a fronteggiare i bisogni conside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Decidere una priorità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2C0-792C-4AEC-A63A-13DF712CF64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</a:rPr>
              <a:t>Un piano di intervento contro la povertà delle famiglie con figli minori </a:t>
            </a:r>
            <a:br>
              <a:rPr sz="4400"/>
            </a:b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(Reddito inclusione sociale minori - RISM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disegnare e attivare un percorso, e non solo varare una misura occasionale, occorre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elaborare una politica per il RISM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declinarla in un “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Piano operativ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piano considera una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serie di misur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ne indica la attivazione combinata nel tempo e n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Predisporre un pian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C5F3-4BB8-4B17-BA4D-21444283D94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1800360"/>
            <a:ext cx="7875360" cy="42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fenomeno complesso, a più dimen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iù fattori concorrono a generarla,superarla o cronicizz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ene descritta privilegiando la dimensione economica, con indicatori consegu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 analizzata e contrastata considerando l’insieme delle dimensioni e dei fattori caus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ole erogazioni monetarie sono per lo più necessarie, ma spesso inadeg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Quale povertà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62C-2787-4204-8DAA-DF58AEF8D3C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piano operativo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non deve essere un libro di analisi e sog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n rischio di impat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e proporre 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obiettivi misurabili finali e interme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assicurare corrispondenti adeguate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risor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prevedere un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monitorag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lle cui risultanze legare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incentivi e sanzion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gli at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Requisiti del pian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E6BA-C5E3-439F-9258-D30BACE53B4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overtà ha più dimensioni e più fattori determinanti per il suo insorgere e i suoi sviluppo, come si è d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iano RISM deve allora preved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una integrazione economic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 reddito delle famiglie con figli min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attività di sostegn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n servizi e altri interventi di inserimento sociale, e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di promozione  e responsabilizz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I contenuti del piano RISM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08D7-AA44-4F5C-81DB-411F4BB757B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14240" y="1857240"/>
            <a:ext cx="7772400" cy="44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I piano riprende le due dimensioni</a:t>
            </a: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 strategiche del Reddito Minimo di Inseriment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che in Europa quasi tutti i paesi hanno fatto propri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dimensione assistenza economic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niversalis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elettiva su reddito famili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rogazione monetaria integ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dimensione inserimento sociale e/o lavorativ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gettazione e accompag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u singo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egoziata con i beneficiari che devono assumere impegni e rispettar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Una politica di sostegno e promozion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685-7D9D-4885-8207-8927D2432E2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14240" y="1657080"/>
            <a:ext cx="777240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2640" indent="-51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ffusione sul territorio di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punti di acces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valutazione del caso, presa in carico, progettazione degli interventi, con particolare attenzione ai min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erogazioni economiche 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tegrative del reddito, rapportate all’ISEE corr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mozione su tutti i territori di un insieme di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</a:rPr>
              <a:t>servizi e interve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icolarmente rilevanti per le famiglie con fig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Contenuti del piano RISM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6B9D-2CD3-4932-9C38-A2C20ED0D9A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14240" y="2085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6699"/>
                </a:solidFill>
                <a:latin typeface="Arial"/>
              </a:rPr>
              <a:t>Le Regioni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vono disciplinare e promuovere la diffusione sul territorio di punti di accesso alle misure qui considerate, per l’ascolto e la valutazione dei casi familiari, la progettazione e l’individuazione degli interventi economici e dei servizi, l’accompagnamento e il monitoraggi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i tali funzioni sono responsabili </a:t>
            </a:r>
            <a:r>
              <a:rPr b="0" lang="it-IT" sz="2700" spc="-1" strike="noStrike">
                <a:solidFill>
                  <a:srgbClr val="006699"/>
                </a:solidFill>
                <a:latin typeface="Arial"/>
              </a:rPr>
              <a:t>i Comun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che le programmano nel PdZ e le gestiscono in modo associato e integrato a livello di ambito, impegnando operatori con professionalità appropri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. Accesso, valutazione. progettazion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766-6DFE-45F8-A049-3E82C69312F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e politiche di contrasto alla povertà e le politiche familiari in merito privilegiano prospettive diverse, come abbiamo v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. Erogazioni monetari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8E4-A21A-420E-9CA1-09CAB033911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0840" indent="-33084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iorità è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il sostegno alla generazione e alla cura dei figli, e alla educazione e promozione dei minori stes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Da qui la preferenza per un assegno per i singoli min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prospettiva trova una articolata declinazione in una proposta di Baldini, Bosi e Matteuzzi, cui rinvio, che riforma l’intero sistema delle erogazioni a sostegno della famig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Per le politiche familiari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A00E-6477-4F49-A609-9094A0438DC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4"/>
          <p:cNvSpPr/>
          <p:nvPr/>
        </p:nvSpPr>
        <p:spPr>
          <a:xfrm>
            <a:off x="1500120" y="630396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Baldini M., Bosi P., Matteucci M.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Il sostegno al reddito e alle responsabilità familiari La proposta di Istituzione dell’assegno per i minori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Guerzoni L. (a cura di)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Le politiche di sostegno alle famiglie con figli. Il contesto e le priorità 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Mulino, Bologna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7600" indent="-327600" algn="just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a priorità è 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l’integrazione dei redditi di tutte le famiglie, qualsiasi sia la loro composizione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, fino ad una soglia che consenta un’esistenza dignito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a crisi economica e i costi sociali che si prospettano, portano a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it-IT" sz="2500" spc="-1" strike="noStrike" u="sng">
                <a:solidFill>
                  <a:srgbClr val="006699"/>
                </a:solidFill>
                <a:uFillTx/>
                <a:latin typeface="Arial"/>
              </a:rPr>
              <a:t>privilegiare una politica di contrasto alla povertà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, mantenendo però attenzione specifica ai bisogni delle famiglie con minor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L’attenzione ai minori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si traduce ora nel dare priorità all’intervento per le loro famiglie. In una futura estensione a tutte le famiglie povere, può esprimersi in una ponderazione nella composizione familiare che favorisca i minori nella scala di equivalenz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Per le politiche di contrasto alla povertà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0833-E995-4BD8-BCFE-73FD9D241AC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23569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eneficiari sono le famiglie con figli minori con Isee di € 6.000 o, in via subordinata, di € 5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misura mira a integrare il loro reddito fino a portarlo alla soglia Isee ass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ntità dell’erogazione varierà quindi sulla composizione della famiglia e il suo attuale red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Ipotesi per una integrazione del reddito delle famiglie  con figli minori  </a:t>
            </a: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(Reddito inclusione sociale minori - RISM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A961-1179-4A6B-AD46-8C25E12A8B4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levazione che ISTAT ripete ogni anno su un campione di circa 24.000 famig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l’indagine a partire dalla quale l’ISTAT stima annualmente l’incidenza della povertà relativa in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unità di rilevazione è la famiglia di fatto, intesa come un insieme di persone co-abitanti e legate da vincoli di matrimonio, parentela, affinità, adozione, tutela o affettiv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ndizione economica delle famiglie italiane viene tracciata partendo dai rispettivi livelli di spesa legati al consumo; vengono, cioè, considerati, tutti i beni e servizi acquistati o comunque consumati dalle famiglie per le proprie necessità (spese per generi alimentari, per l’affitto, ec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6699"/>
                </a:solidFill>
                <a:latin typeface="Wingdings"/>
                <a:ea typeface="Wingdings"/>
              </a:rPr>
              <a:t></a:t>
            </a:r>
            <a:r>
              <a:rPr b="0" i="1" lang="it-IT" sz="2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i="1" lang="it-IT" sz="2800" spc="-1" strike="noStrike">
                <a:solidFill>
                  <a:srgbClr val="006699"/>
                </a:solidFill>
                <a:latin typeface="Arial"/>
              </a:rPr>
              <a:t>metodo della sp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Stime effettuate dall’indagine ISTAT sui consumi delle famiglie italian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FD3-AE98-427C-883C-80B771C9ACC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02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</a:rPr>
              <a:t>Povertà economica, eventi critici, svantaggi e marginalità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480" y="2143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overtà econom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associa positivamente ad altri indicatori di svantaggio e marginalità (livello di istruzione, aspettative di salute e di vita, lavoro dequalificato e poco gratificante, ec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duce molto la possibilità di resistenza e recupero a fronte di criticità della vita (malattie, lutti, rottura di rapporti coniugali, disoccupazione, disabilità, ec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A6E0-221E-4A34-A311-B52242A1B17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3840" y="1857240"/>
            <a:ext cx="8929800" cy="41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Assunto 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in presenza di  livelli di reddito particolarmente bassi, in particolare delle famiglie con minori, la spesa per consumi tende a coincidere con il reddito disponi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Assunto 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le stime basate sui dati di spesa,  anziché di reddito, consentono di tenere conto di tutte le famiglie, anche quelle ‘incapienti’, e di tutte le entrate, anche quelle “assistenziali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Le nostre stime a partire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dall’indagine sui consumi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0860-6A87-4A89-98A7-C5BB994559C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032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</a:rPr>
              <a:t>Distribuzione tipologia familiare famiglie &lt; 6.000 € ISEE annu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22200" y="1341360"/>
          <a:ext cx="914580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341360"/>
                    <a:ext cx="914580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C952-714B-4241-BA22-5A7B0BC4A42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  <a:ea typeface="Arial"/>
              </a:rPr>
              <a:t>Beneficiari del RISM su ipotesi ISEE &lt; 6.00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9C3-B100-42C1-BAA1-0A1C41B6EC1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85920" y="1285920"/>
          <a:ext cx="6500880" cy="4795920"/>
        </p:xfrm>
        <a:graphic>
          <a:graphicData uri="http://schemas.openxmlformats.org/drawingml/2006/table">
            <a:tbl>
              <a:tblPr/>
              <a:tblGrid>
                <a:gridCol w="3929040"/>
                <a:gridCol w="1571760"/>
                <a:gridCol w="1000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pie con fig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148.0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otenzialmente beneficiar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.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 figli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4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numero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.4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i monoparent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1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otenzialmente beneficiar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 figli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6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numero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otale famiglie beneficia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68.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otale minori benefici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74.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3"/>
          <p:cNvGraphicFramePr/>
          <p:nvPr/>
        </p:nvGraphicFramePr>
        <p:xfrm>
          <a:off x="0" y="2054160"/>
          <a:ext cx="9325080" cy="39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4160"/>
                    <a:ext cx="93250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C0A-B39E-4F6D-8BA2-E1AB4519F37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7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</a:rPr>
              <a:t>Distribuzione tipologia familiare famiglie &lt; 5.000 € ISEE annu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Stima beneficiari RISM  per ISEE &lt; 5.00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6D8-611F-4D3F-B391-356D38F8F04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285920" y="1285920"/>
          <a:ext cx="6500880" cy="4795920"/>
        </p:xfrm>
        <a:graphic>
          <a:graphicData uri="http://schemas.openxmlformats.org/drawingml/2006/table">
            <a:tbl>
              <a:tblPr/>
              <a:tblGrid>
                <a:gridCol w="3929040"/>
                <a:gridCol w="1571760"/>
                <a:gridCol w="1000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pie con fig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148.0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otenzialmente beneficiar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 figli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.8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numero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.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i monoparent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1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otenzialmente beneficiar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5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 figli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numero min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otale famiglie beneficia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3.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otale minori beneficia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it-IT" sz="20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404.0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  <a:ea typeface="Arial"/>
              </a:rPr>
              <a:t>Stima costi RISM su ISEE &lt;6.000 e &lt;5.00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240" y="1428840"/>
          <a:ext cx="7772400" cy="4690800"/>
        </p:xfrm>
        <a:graphic>
          <a:graphicData uri="http://schemas.openxmlformats.org/drawingml/2006/table">
            <a:tbl>
              <a:tblPr/>
              <a:tblGrid>
                <a:gridCol w="4665960"/>
                <a:gridCol w="1552320"/>
                <a:gridCol w="1554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&lt; 6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&lt; 5.00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zione media mensile coppia con fig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zione media mensile coppia con figli min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zione media mensile nucleo monoparent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zione media mensile nuclei monoparentali con figli min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bisogno finanziario annuo coppia con fig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09.903.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.569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bisogno finanz. annuo coppia con figli min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8.533.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.398.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bisogno finanziario annuo nucleo monop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.815.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.527.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bbisogno finanz. annuo n. m. con figli min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328.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123.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Fabbisogno finanz. annuo famiglie con figli min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.085.861.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it-IT" sz="16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37.522.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588-605C-4C9A-A1C4-5AB92CAC380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14240" y="1643040"/>
          <a:ext cx="7786800" cy="4406760"/>
        </p:xfrm>
        <a:graphic>
          <a:graphicData uri="http://schemas.openxmlformats.org/drawingml/2006/table">
            <a:tbl>
              <a:tblPr/>
              <a:tblGrid>
                <a:gridCol w="3868920"/>
                <a:gridCol w="2039760"/>
                <a:gridCol w="1878120"/>
              </a:tblGrid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OGLIA ISEE &lt; 5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SOGLIA ISEE &lt; 6.0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glie residenti in 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67.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67.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a delle famiglie potenzialmente beneficiarie di una misura di integrazione del reddito (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-up 10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.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8.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sul totale delle famiglie resid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zione media mensile per famiglia (in e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BISOGNO FINANZIARIO ANNUO (in milioni di eu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.313.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5.433.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2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99"/>
                </a:solidFill>
                <a:latin typeface="Arial"/>
                <a:ea typeface="Arial"/>
              </a:rPr>
              <a:t>Verso il Reddito Inclusione Sociale (RIS) per tutte le famiglie: stima beneficiari e costi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E22-8AFD-498C-AD6C-40530D6AB6A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3568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numeri esposti sono frutto di stime, con le relative discrezionalità e approssimazioni. Si differenziano da quelle effettuate da altri, che possono utilizzare altre base dati e altri per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i da ad esempio un peso maggiore ai minori nella scala di equivalenza sulla composizione famigliare, come fa l’Isee per le famiglie monogenitoriali, già questo comporterebbe un incremento di tali famig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I take up rate del 100% assunto  va perseguito ma non si realizza mai nella realtà.  Andrebbe quindi effettuata una previsione su cui ridurre proporzionalmente il costo sti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Arial"/>
                <a:ea typeface="Arial"/>
              </a:rPr>
              <a:t>Le stime comportano discrezionalità e limit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A32B-D889-4F52-BFDA-B50FEEFECC8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14240" y="228564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 verificata la possibilità di coordinar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o ricomporre nella nuova misura RISM altre erogazioni esist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nazionali regionali e locali. Questo consentirebbe di razionalizzare e meglio finalizzare tali interventi e di ampliare la platea dei beneficiari del RM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necessario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approfondire questa ipotes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 cui il Piano dovrà assumere conseguenti decisioni in una prospettiv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di riforma del sistema e di generalizzazione progressiva di un reddito minimo per tutte le famig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Ricomporre le erogazioni estendere i beneficiari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905D-C85B-42DE-ADC5-1D60C77937B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42600" y="1285560"/>
            <a:ext cx="7915320" cy="50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cune delle seguenti misure nazionali, dopo adeguate verifiche per tutelare gli attuali beneficiari,  potrebbero essere in tutto o in parte coordinate o ricomposte nel R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egno a famiglie con perlomeno 3 figli (su ISE famili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card (individuale, incapienti IRPEF, ISEE familiare) relativa a famiglie con figli minori di 3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99"/>
                </a:solidFill>
                <a:latin typeface="Arial"/>
              </a:rPr>
              <a:t>Insieme impegnano 500/60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us famiglia (una tantum, su reddito complessivo nucleo famili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99"/>
                </a:solidFill>
                <a:latin typeface="Arial"/>
              </a:rPr>
              <a:t>Il bonus si è già esaurito. Se si destinasse nei prossimi anni la stessa somma di 1.196 milioni di euro al RMM, si potrebbe  estendere di molto la platea de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Quali erogazioni ricomporre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BDEB-C605-49E9-9477-0B61A6540AA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1424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 Italia, nel confronto con altri paesi UE o Ocse, prese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o livello di povertà, in particolare di povertà minorile, in a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ti diseguaglianze di red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eguaglianze ancora più accentuate di ricch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sa mobilità intergenerazionale dei red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99"/>
                </a:solidFill>
                <a:latin typeface="Arial"/>
              </a:rPr>
              <a:t>I minori poveri sono particolarmente numerosi e sono fortemente svantaggiat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ella loro condizione di vita e nelle loro opportunità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Povertà e diseguaglianza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D3EA-23E3-462D-B360-614473149D4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oro ricomposizione nel RMM realizzerebbe un chiaro miglior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quanto ai beneficiari</a:t>
            </a:r>
            <a:r>
              <a:rPr b="0" lang="it-IT" sz="24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ngono</a:t>
            </a:r>
            <a:r>
              <a:rPr b="0" lang="it-IT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rogati limiti iniqui (avere almeno tre figli, o figli sotto i tre anni) e parificati tutti i residenti (anche gli stranieri regol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quanto all’erog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a integrazione del reddito per tutti fino alla soglia indicata (che tiene conto della composizione familiare) è più equa dell’erogazione in cifra fissa, che prescinde dalla situazione attuale familiare e redditu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Con la ricomposizione nel RISM</a:t>
            </a:r>
            <a:br>
              <a:rPr sz="3600"/>
            </a:b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 più equità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FF9-680B-4EC3-86E4-E76364B43E9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RISM adotta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un unico indicatore di situazione economica in capo allo stesso soggetto</a:t>
            </a:r>
            <a:r>
              <a:rPr b="0" lang="it-IT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famiglia o individuo), cruciale per razionalizzare e finalizzare gli interv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tilizza a tal fine l’</a:t>
            </a:r>
            <a:r>
              <a:rPr b="0" lang="it-IT" sz="2800" spc="-1" strike="noStrike">
                <a:solidFill>
                  <a:srgbClr val="0066cc"/>
                </a:solidFill>
                <a:latin typeface="Arial"/>
              </a:rPr>
              <a:t>Ise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pportando qualche correzione e flessibilizzandolo in ordine allo specifico utiliz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Unificare la prova dei mezzi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3FD5-A8F0-4CD0-8BAA-7E51428B9C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14240" y="1482840"/>
            <a:ext cx="7772400" cy="494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biamo detto ch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a povertà è fenomeno a più dimensio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ltre a quella economica, e con più fattori causali. Va quindi affrontata con erogazioni monetarie e con altri interventi che trattano altre dimensioni e fattori della povertà delle famiglie, per ridurli e dove possibile supera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ttando di famiglie povere con figli minori occorre attingere tanto alle misure proprie del contrasto alla povertà e dell’inserimento sociale e lavorativo, quanto alle misure proprie del sostegno alle famig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d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interventi di consulenza e accompagnamento, di misure di conciliazione, di offerta di servizi sociali, sociosanitari, educativi, scolastic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gli asili nido alla scuola alla formazione professionale per esemplif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. Servizi e interventi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48A-764E-4BFE-84DC-D801FD0AAB1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Misura universalistica, permanente, selettiv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   reddito e bisogno, fortemente equitativa e redistributi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integ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reddito delle famiglie con min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egue l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responsabilizzazione e attivazione dei benefici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uperando ove possibile l’assistenzi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to da Regioni e Comun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valorizza le autonomie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trasta il perdurante centralismo in una prospettiva di feder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Vantaggi del RISM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16B-8174-4FB4-91A0-1AEDB18458C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42856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</a:rPr>
              <a:t>I livelli essenziali per il RISM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198108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7600" indent="-327600"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osservatorio sulla 328/00 ha  ben chiarito che le politiche  di affermazione dei diritti sociali devono assumere come obiettivi strategici livelli essenziali di prestazione che vanno ben oltre le risorse economiche, professionali, organizzative oggi dispon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ccorre quindi assumere  e </a:t>
            </a:r>
            <a:r>
              <a:rPr b="0" lang="it-IT" sz="2000" spc="-1" strike="noStrike">
                <a:solidFill>
                  <a:srgbClr val="006699"/>
                </a:solidFill>
                <a:latin typeface="Arial"/>
              </a:rPr>
              <a:t>declinare il tema dei livelli in termini di processo di attu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n partenza subisce molti limiti, da via via ridurre per tendere a soglie più adeguate, “essenzia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viluppo indicato implica </a:t>
            </a:r>
            <a:r>
              <a:rPr b="0" lang="it-IT" sz="2000" spc="-1" strike="noStrike">
                <a:solidFill>
                  <a:srgbClr val="006699"/>
                </a:solidFill>
                <a:latin typeface="Arial"/>
              </a:rPr>
              <a:t>la riforma delle misure vig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ffermata anche nel libro verde, con il loro graduale assorbimento nelle nuove misure “universalistiche e selettive”, con i relativi live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le processo può avvenire solo attraverso una intesa concertata e via via aggiornata tra </a:t>
            </a:r>
            <a:r>
              <a:rPr b="0" lang="it-IT" sz="2000" spc="-1" strike="noStrike">
                <a:solidFill>
                  <a:srgbClr val="006699"/>
                </a:solidFill>
                <a:latin typeface="Arial"/>
              </a:rPr>
              <a:t>Stato, Regioni, Autonom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e solo tramite la ricerca del maggior consenso possibile delle organizzazioni so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Il cammino verso i livelli essenziali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7C62-7DC0-4A83-B105-9FE9EF2DD55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diritto sociale da affermare con una politica di contrasto alla povertà delle famiglie con figli minori consiste nel disporre d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6699"/>
                </a:solidFill>
                <a:latin typeface="Arial"/>
              </a:rPr>
              <a:t>risorse economiche adeguat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lla famiglia e alla generazione, crescita ed educazione dei figli mino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Opportunità, responsabilizzazione, sostegni per </a:t>
            </a:r>
            <a:r>
              <a:rPr b="0" lang="it-IT" sz="2700" spc="-1" strike="noStrike">
                <a:solidFill>
                  <a:srgbClr val="006699"/>
                </a:solidFill>
                <a:latin typeface="Arial"/>
              </a:rPr>
              <a:t>l’inserimento e la promozione social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i componenti e in particolare dei mino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RISM è </a:t>
            </a:r>
            <a:r>
              <a:rPr b="0" lang="it-IT" sz="2700" spc="-1" strike="noStrike">
                <a:solidFill>
                  <a:srgbClr val="006699"/>
                </a:solidFill>
                <a:latin typeface="Arial"/>
              </a:rPr>
              <a:t>un passo inizial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verso un più completo e diffuso diritto sociale contro la povertà (RI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Quale diritto social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00F1-2267-47CB-908E-20F90DD799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85880" y="16426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livelli essenziali sono relativi alle azion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A, B e C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tto ad un accesso a bassa soglia sul territorio, per verifica dei requisiti, valutazione professionale, nel caso progettazione, orientamento,accompagnamento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a serviz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Ciò implic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a definizione nei livelli essenziali del diritto e di standard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lla presenza effettiva e qualificata di tali accessi su tutti i terri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tto ad ottenere un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erogazione monetar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tiva del reddito fino alla soglia stabilita, anch’essa definita  e finanziata come livello essenziale (se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Quali livelli essenziali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F4E0-C694-4868-BA1E-28EDC128583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57360" y="2214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Il diritto a serviz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i, scolastici, educativi, rispondenti ai bisogni di famiglie con figli potrebbe configur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ivelli essenzial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termini di diritti e  standard  per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l’asilo ni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 il relativo Piano va rifinanziato) e servizi equivalenti, in attesa che via via si possano estendere ad altri servi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velli essenziali com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priorità di accesso e bonu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’acquisizione di prestazioni dai servizi prima citati, con progressiva estensione degli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Quali livelli essenziali (segue)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704-C1CC-4B34-A6FC-76BAC7D234E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a la forte diversità dei livelli di povertà minorile e delle dotazioni di servizi dei territori si potrebbero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concordare tempi di realizzazione territorialmente differenziat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ordine ai comuni obiettivi fin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ò consentirebbe di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non lasciare nessuno ferm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ve è e di distribuire le risorse fra le Regioni in termini politicamente più ag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Le differenze territorial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369-73E6-4BAB-96A7-9FA19FC5284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1657080"/>
            <a:ext cx="828648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difficoltà economiche del nucleo familiare sono correlate al numero di componenti min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mero di minori poveri è in Italia in costante aumento, dal 23% fine anni ’70 al 32% de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minori poveri sono fortemente svantaggiati nella loro condizione di vita e nelle loro opportunità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i ha minori risorse economiche subisce più vincoli e  limitazioni al determinare liberamente il numero dei figli e più oneri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er la loro educazi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Perché dare priorità</a:t>
            </a:r>
            <a:br>
              <a:rPr sz="4000"/>
            </a:b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alle famiglie con figl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39A-8299-42B6-9582-94053627CC9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Il processo istituzionale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ISM va definito nell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Conferenza Stato-Regioni-Autonomi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per impegnare i livelli istituzionali o nel finanziamento dell’erogazione economica o nella promozione della misura sul territo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a la sua dimensione di inserimento e promozione sociale il RISM non può essere gestito da piccoli o medio-piccoli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Comu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rivi delle competenze professionali e della rete territoriale necessaria.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Va gestito a livello di Ambi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impegnando l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Regio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d un forte accompagnamento, diretto o tramite l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C34-96D5-4D69-99DE-723CAEFDCE5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14240" y="2085480"/>
            <a:ext cx="777240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’istruttoria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per la presa in carico e l’erogazione economica è 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disciplinata dalle Regioni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ispettando i livelli essenziali indicati dallo Stato; è 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svolta dai servizi comunali integrat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i a livello di ambito sociale. La misura </a:t>
            </a: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è inserita nel Pd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’erogazione è effettuata dai Comuni (o dall’Inps), attingendo alle risorse finanziarie dedic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6699"/>
                </a:solidFill>
                <a:latin typeface="Arial"/>
              </a:rPr>
              <a:t>I criteri di finanziamento e di attribuzione delle risorse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alle Regioni vengono concordati nel Comitato Stato / Regioni / Autonomie, affrontando le serie difficoltà che la disomogenea distribuzione sul territorio di bisogni e risorse prop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La gestione del RISM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44C-00C8-4DFD-8794-6B1BE78398A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L’introduzione del RISM implica una scelta crucial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426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fidare al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sistema regionale e delle autonomie local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cisione e la gestione delle erogazioni economiche oltre che de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cambiamento radic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all’attuale situazione in cui più dell’80% della spesa socioassistenziale è assorbita da misure monetarie erogate cent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Attua così il disatteso tit.V della Costituzione e si orienta al federalismo fisc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cui potrebbe rappresentare una parziale sperimentazione, insieme alla non autosufficenza, offrendo elementi di concretezza al confronto sul feder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CA48-37D3-4BE5-BAB6-6D36F70F79D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99"/>
                </a:solidFill>
                <a:latin typeface="Arial"/>
                <a:ea typeface="Arial"/>
              </a:rPr>
              <a:t>Il territorio consente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analisi e 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oggetto/famiglia destinatari e del contesto di appartenen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progettazione personalizzat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scelta degli interventi più appropr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orizzazione delle risorse e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responsabilizz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i soggett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monitoraggio e controll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gli interventi, le risorse, i c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prodotto e di risu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BE74-D391-46D9-A105-2B5C1B8C30F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cruciale che qualsiasi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nuova misura venga introdotta, e i relativi livelli essenziali, siano monitorati e valut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poter poi procedere alle debite correzioni o sostituzioni non su  ragioni astratte ma su verifiche condotte da soggetti indipendenti e qualific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quanto purtroppo </a:t>
            </a:r>
            <a:r>
              <a:rPr b="0" lang="it-IT" sz="2800" spc="-1" strike="noStrike">
                <a:solidFill>
                  <a:srgbClr val="006699"/>
                </a:solidFill>
                <a:latin typeface="Arial"/>
              </a:rPr>
              <a:t>raramente accad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ai diversi livelli di go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Monitoraggio e valutazion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ADED-7C1A-4D63-A197-0066DF61BED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risi economica si accentu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e non si avviano iniziative incisive di riforma del sistema assistenzi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di sviluppo di nuove politiche, possibile all’avvio di legisl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troppo tempo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sulle politiche social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Italia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si gallegg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non si nav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2400" spc="-1" strike="noStrike">
                <a:solidFill>
                  <a:srgbClr val="006699"/>
                </a:solidFill>
                <a:latin typeface="Arial"/>
              </a:rPr>
              <a:t>RISM può rappresentare un primo modesto pas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ttento ai cittadini del domani, di una scelta strategica qualific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Crisi economica e politiche sociali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06E5-8320-4205-8F8F-EF69D63EEA0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14240" y="2071440"/>
            <a:ext cx="8072640" cy="41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Va considerato anche un riconoscimento del </a:t>
            </a: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valore sociale delle attività di procreazione ed educazion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 rendere possibile la riproduzione soc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ali ragioni possono </a:t>
            </a: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giustificare una priorità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le famiglie con minori, non una esclusività nei confronti delle altre famiglie pove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sporre dei mezzi per una esistenza dignitosa è diritto sociale universale. Priorità sono quindi accettabili solo entro una strategia che subisce vincoli di bilancio ma persegue, </a:t>
            </a:r>
            <a:r>
              <a:rPr b="0" lang="it-IT" sz="2600" spc="-1" strike="noStrike">
                <a:solidFill>
                  <a:srgbClr val="006699"/>
                </a:solidFill>
                <a:latin typeface="Arial"/>
              </a:rPr>
              <a:t>la progressiva estensione della misura a tutte le famiglie pover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con o senza figli mino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Priorità, non esclusività,</a:t>
            </a:r>
            <a:br>
              <a:rPr sz="4400"/>
            </a:b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 con progressiva estensione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7D7A-D967-4C77-97FA-68934C20C50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99"/>
                </a:solidFill>
                <a:latin typeface="Arial"/>
                <a:ea typeface="Arial"/>
              </a:rPr>
              <a:t>Italia ed Europa: contro la povertà, quante risorse, con quale efficacia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14240" y="1800000"/>
            <a:ext cx="77724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a protezione sociale sul P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a per housing and soci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a per le fami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fficac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u abbattimento povertà (con/senza pensio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u abbattimento povertà minor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arsa efficacia redistributiva delle prestazioni monetarie in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rogazioni monetarie/serv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99"/>
                </a:solidFill>
                <a:latin typeface="Arial"/>
                <a:ea typeface="Arial"/>
              </a:rPr>
              <a:t>Italia ed Europa: quante risorse, con che efficacia?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40B-6F7B-4993-84F3-76E5FD17E26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8:12:14Z</dcterms:created>
  <dc:creator>Andrea Galli</dc:creator>
  <dc:description/>
  <dc:language>en-US</dc:language>
  <cp:lastModifiedBy>Immigrati</cp:lastModifiedBy>
  <cp:lastPrinted>2001-01-26T11:31:58Z</cp:lastPrinted>
  <dcterms:modified xsi:type="dcterms:W3CDTF">2009-02-16T09:46:49Z</dcterms:modified>
  <cp:revision>419</cp:revision>
  <dc:subject/>
  <dc:title>Nascita dell'idea di osservatorio laboratorio   </dc:title>
</cp:coreProperties>
</file>